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87A9-D3EC-46BD-A63A-B8D25674C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0F5A-5340-496F-8640-100C31D5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4D055-B4FF-4BF8-93EF-4AD0CB9F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B96BA-771E-407E-B3CF-F053AC5D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6E723-B7B7-4526-A80A-6D105750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9BB24-16AA-4E9E-8C9D-D5599953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A104BF-7EB8-4340-99CC-81003684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540B4-7C3B-41E9-9B6D-94AE1B18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266A3-5CF2-44E5-A2AE-16E85142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05BD3-DDE9-427F-8464-043A5AE4D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DA465-CE14-4144-92F7-F8543AB2F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05B4B8-1E49-458E-98A3-30EE999F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AD2D-8C32-4E9E-80D8-F398D8526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A0344F-051D-4701-B565-4307F5F6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70573A-6002-45B3-8CC3-82E687AA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203355-ED7D-407A-BEEB-73D4F997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C803ED-B0AE-4896-8050-BEB544B0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22E0C5-6287-45E5-8051-7724B1AC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C468EF-2B54-4C73-89B3-ED42839A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9860AE-8426-4057-B1A9-FCD68B7E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C89F44-6D81-47F9-A23C-04CEAFE3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697A5B-6D3F-4070-B0A5-D38E2E7E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4F384A-5685-4263-BE09-C07368EC0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44C8-5D54-463B-9E87-7CE4AA2F4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2AA8A5-EE1C-4AA5-AAC8-AE79A3345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F6830-7BF1-4800-9ECA-5772F0A9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38CE7-D282-4409-99B4-2095FB2E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DFB16-414B-4991-BD2C-94F6DDD0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371E6-3104-4255-B346-344198CD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BC8B7-4E38-46E6-ACA0-A64701E8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675D1-401C-4919-8ACE-A751AA23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FF448-3EAB-4F94-9C45-4ABECD31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04419-6265-4130-9798-97EF7605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8130E-6928-44BF-968A-6E330795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76AE-7A3F-4821-A5EA-6B989760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A60AF-D9E9-4BE9-8B60-E101FF16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847F6-C3A1-4311-B67B-3319EF2B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26172-6A9C-4DB2-9787-D23794344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E01702-1E9E-4C2A-BDF5-BBC52BE1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1C1AC-9D23-44E2-BC31-7015D6BE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5A33E4-5FFF-46BC-8415-73960433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E549ED-DAC4-46BB-AD13-C52627E4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079C58-E289-4D09-AD8B-1F7603C7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A9525-DA4A-4939-9E85-65958B38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2A0E2-D1A5-4B27-8D0F-9B165C47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170D-7DB0-4DA1-A1EA-6E6B95B7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5CDFB-CA93-4AA9-B6FD-4C7F49CD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BD8C3E-17E9-4D0C-AEC8-C3AB2311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75436F-3C27-42A3-BEA8-BCED34C4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F8FC7-A905-48DD-8C1F-3479407E7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3B129-201B-404F-A8D6-141CF7D91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FCA7-8A5C-49CD-8177-A6681E77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1C8F-650E-4FE1-93E8-C9F8D19F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952E-F57E-4569-8CD7-DBF0E681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45C5-C51C-49E3-B1FE-1BF2B11E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6988-088A-43D0-93BD-5F047BE6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F2F5-B241-4E74-8DA9-4CCA7E95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B5D8-21D8-4E38-A387-047C1BD0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15DC-E042-46EA-9DB7-DACF4B1E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2084-208B-4CCA-A97D-5F62DC7E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B316-F706-4A47-AE14-3AEAB328C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BA79-602B-41E0-A946-23DE9993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91FF9-E76F-4D7E-942A-8CA32B9A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32C42-1A25-4E7F-9205-0B051E09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1738B-46A5-4F98-AD65-8BBD05B6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30745-A995-47F4-BF40-DFDDD84A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6E11C-6F00-412E-80FB-3464323E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8BD3-42DD-4266-8C84-8775BE1D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58621-1D00-455A-B1F1-39B8E265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B726E-DD47-4421-90F0-D47FF28C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CBDF5-EB9C-4C41-88C8-7C67B8A8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924CC-C7BD-4623-858E-28EECAAB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0A92D-A921-479E-B966-00072E8B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B3321-525C-4CBB-A4A1-D507ED286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D2290-8EDB-4AD8-9CDE-6D78D7650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232E0-CF0B-4B1E-B1A3-93056056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E7719-138C-4AD6-8084-707D1503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5A517-574F-4A1D-9BAB-A56FEC22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35E0-3FFD-46A2-8869-A7AAC9AA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558DE-5FFB-4FA6-93FA-FE1CD37A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C421A-D8EE-4BBE-8329-BBDC7BA3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62B96-C70B-422F-8956-192B4870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F0789-F2BE-4017-963E-C15EE450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629FD-E034-4DC5-8D95-919EF5CD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3D34A-6051-4F12-8AC8-6D176E05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876E6-96FF-47F6-828F-8D25882A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3C1AD-25E8-4F3B-BC0A-659DFA1B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5A40D-5FEB-4FED-B6D3-493846363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C650A3-8C54-41E4-8EE6-D5D8B65B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8BFC-2A13-4805-A75F-32ECED85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C62E60-DD62-4B17-A51C-70D9DA91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D9BEE8-799A-441C-B957-D1EF0957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2B36A0-DD1A-4FFE-BDDE-C19B7F9A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BBA176-E7BB-4B84-A96C-C240F4BF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5F8E8F-3C27-4B4E-972C-48AF9B2E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B9EB48-640D-4DFE-BC20-7588DCD7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A13537-3890-4CEA-A3DA-93531E62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1302D1-D472-42C7-9E77-61AC0275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86995B-321D-4C1B-9E9B-1A543822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AAFDF0-9044-414E-98EF-A9006A89C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EB9C-7F9B-42D5-99C9-AEF4B600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371DB7-5C12-471B-ACBC-9FAFF1B1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DBB1A-4A65-4AC1-A440-BC6004BF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02379-1BA9-4B67-9655-C083721B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5F42E-6F6E-452D-87C0-3AD81928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EF876-C34C-49D3-87A1-0FC81034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932FC-EEBE-4055-A8EA-25FBDA17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9B04C-3833-4394-86E1-22F15941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62239-B1F4-4A86-A603-1D7D0EB7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E455A-4DC6-4A8E-8BBD-C814539F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DF897-A822-4E95-8997-DAE54C49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3034-6FB2-4418-9693-722AE45F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97245-3287-4587-AE95-811295E0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1F6CA-2E83-4EBE-AD0C-45C68A93E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25832-1DFF-4C28-A2BC-7F873088D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792F9-C804-4751-99C0-7F7EC158D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78015-E51C-43B6-AFB3-AA95C5FA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44962-5470-42AC-A9D5-7218DB97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046E6-CC28-419D-A26D-A9FC0E00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20BB4-3E70-4237-81E7-79A0B487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0AF25-0B05-4C75-8BC8-37C9D533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D68DE-2812-4469-9056-AB3291DA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6305-F953-4E30-95B5-2AAD67B9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9B6B5-5045-4F01-98E5-EB58A0EF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8F3BF-38E7-4F56-9AE5-7F44F123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1A27E-D76D-482E-A94C-B972A6B1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69F92-5444-46AB-A29C-A91235288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9051E-1DC2-472C-A30E-CB4B893B5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20474-5440-4862-B6AB-A239BBD9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25F96-7A64-487E-8EC2-896107D7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DC22F-2DA7-4C94-AE0A-1320C0DF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0178E-19B1-4B42-A46D-DBCE003D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6A06C-FCA9-4658-9CFA-07FF9163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E687-4688-4C55-BAB7-900CCB35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60FA5-A485-43AC-915E-D94A2268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D022A-40CA-48AA-8165-379A85DD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2567C-8EF3-4218-879D-58968FDF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26DBD-433C-4AC3-A885-E574C3E1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3AA4C-72C1-497A-824A-9EB95FDD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1DE1D-0C5D-4F36-B21C-02709F16A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8E3B5-DB80-485C-9D65-8F4B0FA33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A120C-72C5-4328-9266-521157E3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B7853-EF86-4C11-81C0-E177D92A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D17FF-ADB6-4491-9A56-65C7478D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A4FF-6B36-4814-B790-7C3128584A8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AF95-504E-493D-968D-AB420370474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3D5E-897C-4B4D-B793-996C01518D7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C990-22F8-45EB-999A-5FB15854A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A484-FC06-4469-A126-5C4F0C29D27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ADE2-1218-4EF9-B9F4-9CD383E43C3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E680-6415-4067-9E09-DFF5CCFA4257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19A0-09BE-4F99-BCC6-88C9052094D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3170-4977-4DEA-B36D-249C8A128BE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48C8-A8A3-4915-9CA9-687869F885E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AD47-181A-4186-993B-F22FEF61ED6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3115-6F9A-45FF-A8C6-122FB2240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53CF-F009-4F87-833B-91626BD16A7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AF50-0FDB-45AE-8BCC-D903AB0D8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18A2-4135-4115-A7D3-77E1D9F5655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983D-51B8-4F11-9B28-CD8A5EEE6F3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47E7-0CD8-4510-852C-3FB4C8D2064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0A9F-7107-433C-82B1-E9C471CD3CE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4214-FF49-4E57-AE9C-A880294D84D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2B81-53D1-4F19-A56B-72375188F9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3CC7-1650-418A-8DBB-9EE38ABCD10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4D75-10CA-4E22-8BEF-63A9F88C530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81BC-2144-434D-B1CE-2CAF40D4CD3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B293-A213-4429-9A9F-1DFF50DC9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2A42-117C-456D-B05A-18F4251A6B7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431D5-0C2A-4C74-884E-D9BC219D5847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037DD-5A99-4E4D-88A3-1824757816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4C06BD73-4A93-46C5-AB4C-D7FFDB4DDB12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7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ox(out)" transition="out">
                                      <p:cBhvr additive="repl">
                                        <p:cTn id="121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629A2-5682-4E26-906B-0E0153FD4780}" type="slidenum">
              <a:t>3</a:t>
            </a:fld>
          </a:p>
        </p:txBody>
      </p:sp>
    </p:spTree>
  </p:cSld>
  <p:transition>
    <p:comb dir="horz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F78159-50C9-4827-99E9-1C97AE1391C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27EA41A9-5821-4579-A781-563D849D4C0A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8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4B364-BDF2-49BC-ACC1-EEB95D795F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24C50C3E-7DD5-412E-80EA-7F99077F2342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6000"/>
                            </p:stCondLst>
                            <p:childTnLst>
                              <p:par>
                                <p:cTn id="2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700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000"/>
                            </p:stCondLst>
                            <p:childTnLst>
                              <p:par>
                                <p:cTn id="3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9000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C0BD1-DB26-4EAF-AEFF-71CB5BAA1BE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589F8BE3-6B22-43C5-9469-3A9C705C676F}" type="datetime1">
              <a:rPr lang="en-US"/>
              <a:t>07/29/26</a:t>
            </a:fld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